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4C6C-9E37-4F15-ADB6-77A67F216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FF44-A3CA-42CA-B63B-CCE4ED94A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596-F98F-4D49-A93F-5D30F7E8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F0A-B882-435F-820F-1AA40560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47F-9857-4FDF-8FFA-7D3044F3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8D26-28D9-41A5-B170-20B19428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8A9B-0D56-4FAF-B57E-DB9E72E7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D92-2B3A-4D53-B1B0-9FF97469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A3C-E8A2-4230-BC90-2FF87EBB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3BF0-DB0A-444C-9C44-B77FAE4F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188-C840-41CB-890D-5C12DD8A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7456-8E95-42D7-BA87-FAEEFFBB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765-F58A-4760-A572-1921AD97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3B70-322F-4A20-948F-F3AEA238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B874-BA83-4BF4-B940-2B4221CDF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1680" y="172584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¿Veo el cuadr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LE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ólo el mal momen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26880" y="3069720"/>
            <a:ext cx="57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¿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UNI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cuadro completo junto al mal moment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89440" y="507024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¿Es una situación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A VE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algo que se repite con frecuencia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168960" y="2243160"/>
            <a:ext cx="2594160" cy="217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ttp://www.weonlydothisonce.ritesite.us/wp-content/uploads/2013/02/repetition.png"/>
          <p:cNvPicPr/>
          <p:nvPr/>
        </p:nvPicPr>
        <p:blipFill>
          <a:blip r:embed="rId2"/>
          <a:srcRect l="51436" t="13028" r="7768" b="16098"/>
          <a:stretch/>
        </p:blipFill>
        <p:spPr>
          <a:xfrm rot="5400000">
            <a:off x="1241280" y="4365360"/>
            <a:ext cx="170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14086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¿Convierto demasiadas situaciones en asuntos de vida 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UER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733920" y="47311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¿Muestro m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condicional durante situacione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ttp://fallibleblogma.com/wp-content/uploads/2009/08/grim_reaper-280x300.png"/>
          <p:cNvPicPr/>
          <p:nvPr/>
        </p:nvPicPr>
        <p:blipFill>
          <a:blip r:embed="rId1"/>
          <a:stretch/>
        </p:blipFill>
        <p:spPr>
          <a:xfrm>
            <a:off x="5867280" y="1401840"/>
            <a:ext cx="266724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tp://4.bp.blogspot.com/-sLklqQ8tWhs/UQ2H4yddydI/AAAAAAAAANo/VEKiZDom5NY/s1600/heart.png"/>
          <p:cNvPicPr/>
          <p:nvPr/>
        </p:nvPicPr>
        <p:blipFill>
          <a:blip r:embed="rId2"/>
          <a:stretch/>
        </p:blipFill>
        <p:spPr>
          <a:xfrm>
            <a:off x="533520" y="4017960"/>
            <a:ext cx="2857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80880" y="1523880"/>
            <a:ext cx="82296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sta es la historia de un esclavo, Onésimo, que escapó de Filemón. Pablo guió a Onésimo a Cristo y deseaba que permaneciera con él. No obstante, decidió que su relación con Filemón era tan importante que no debería mantener a Onésimo consigo sin el consentimiento de Filemón. Además, Pablo creía que Filemón recibiría a Onésimo, no como esclavo sino como un hermano. Sus acciones eran motivadas por el amor que sentía por ambos hombre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88640" y="126036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mor de los cristianos funciona as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5360" y="1930320"/>
            <a:ext cx="83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ca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ENEST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0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2801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rat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NESTAM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n los demá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12-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8440" y="4078440"/>
            <a:ext cx="51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leva la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G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04920" y="54136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Cree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J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2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ttp://images.sodahead.com/polls/000305453/polls_b161872053_5425_659791_poll_xlarge.jpeg"/>
          <p:cNvPicPr/>
          <p:nvPr/>
        </p:nvPicPr>
        <p:blipFill>
          <a:blip r:embed="rId1"/>
          <a:stretch/>
        </p:blipFill>
        <p:spPr>
          <a:xfrm>
            <a:off x="5715000" y="3562200"/>
            <a:ext cx="33336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939960" y="91692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838080" y="176184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circunstancias de la vida le hagan considerar que las relaciones son menos importantes de lo que debiesen s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62120" y="4151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presiones de la vida lo lleven a descuidar la relación con s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52280" y="-19548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O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ndo Bob tiene u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problema con todos, cas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siempre Bob es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86480" y="3303360"/>
            <a:ext cx="80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ómo se puede reconocer 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?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941040" y="396396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ob es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RT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ttp://www.cliparthut.com/clip-arts/69/sad-person-clip-art-69783.png"/>
          <p:cNvPicPr/>
          <p:nvPr/>
        </p:nvPicPr>
        <p:blipFill>
          <a:blip r:embed="rId1"/>
          <a:stretch/>
        </p:blipFill>
        <p:spPr>
          <a:xfrm>
            <a:off x="6877080" y="57240"/>
            <a:ext cx="2057400" cy="2919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914400" y="4599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ob es un experto e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CONT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957600" y="5573520"/>
            <a:ext cx="72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952560" y="618336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CEPT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-76320" y="8316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odes y el pueblo de Isr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12: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0640" y="1656000"/>
            <a:ext cx="82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TRAT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sus propios ciudadan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 ejecutar a gente inocente (v.1-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6600" y="3097440"/>
            <a:ext cx="86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omó decisiones basado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PULA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7360" y="4545000"/>
            <a:ext cx="338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Actuó de maner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RA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momentos difíciles (v.19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279720" y="154080"/>
            <a:ext cx="90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Guardab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contra de los demás (v.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268920" y="992160"/>
            <a:ext cx="95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Buscaba el poder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EGU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v.20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275040" y="1830240"/>
            <a:ext cx="100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Aparentaba ten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AG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fallible (v.21-2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2280" y="260064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staba cegado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el cual después lo mató (v.2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316160" y="15408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hacer con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00560" y="9918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a con un comentario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18331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uestre su interés por la persona que está siendo crit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34680" y="327780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Pídale a Bob que piense antes de hab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09480" y="4336560"/>
            <a:ext cx="83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Motive a que se den pasos concretos hacia una s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11280" y="5810040"/>
            <a:ext cx="83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Mantenga a Bob alejado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242360" y="10692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600920" y="2160360"/>
            <a:ext cx="46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yo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523880" y="433656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no ser así, ¿cómo trató 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 organiz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3880" y="30524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ser así, ¿qué necesito hacer para camb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801800" y="6933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14400" y="2882160"/>
            <a:ext cx="7940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Podemos desarroll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 confianza mutu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152280" y="57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CESIBILIDA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Si estamos a gusto con nosotros mismos, otros se sentirán a gusto con nos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28600" y="29728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hay más grande regalo que podamos dar a los demás que hacerlos sentir cómodos. Los buenos líderes son seguros y no proyectan una imag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intocable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ttp://www.standoutblogger.com/images/approachable.gif"/>
          <p:cNvPicPr/>
          <p:nvPr/>
        </p:nvPicPr>
        <p:blipFill>
          <a:blip r:embed="rId1"/>
          <a:stretch/>
        </p:blipFill>
        <p:spPr>
          <a:xfrm>
            <a:off x="6019920" y="2631960"/>
            <a:ext cx="293832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"/>
          <p:cNvGrpSpPr/>
          <p:nvPr/>
        </p:nvGrpSpPr>
        <p:grpSpPr>
          <a:xfrm>
            <a:off x="1066680" y="0"/>
            <a:ext cx="6934320" cy="6693480"/>
            <a:chOff x="1066680" y="0"/>
            <a:chExt cx="6934320" cy="6693480"/>
          </a:xfrm>
        </p:grpSpPr>
        <p:pic>
          <p:nvPicPr>
            <p:cNvPr id="132" name="Picture 1" descr=""/>
            <p:cNvPicPr/>
            <p:nvPr/>
          </p:nvPicPr>
          <p:blipFill>
            <a:blip r:embed="rId1"/>
            <a:srcRect l="0" t="-1136" r="0" b="866"/>
            <a:stretch/>
          </p:blipFill>
          <p:spPr>
            <a:xfrm>
              <a:off x="1066680" y="0"/>
              <a:ext cx="6934320" cy="66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"/>
            <p:cNvSpPr/>
            <p:nvPr/>
          </p:nvSpPr>
          <p:spPr>
            <a:xfrm>
              <a:off x="1066680" y="6172920"/>
              <a:ext cx="69343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Me siento un líder debe ser accesible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3576600" y="1676520"/>
            <a:ext cx="556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le pidió a su siervo que le encontrara una esposa a Isaac. El siervo viajó a Mesopotamia así como Abraham le había mandado hacer, al llegar sentó a sus camellos afuera de la cuidad junto a un pozo de agua, cuando la tarde caía. Esperaba que las mujeres de la ciudad vinieran a sacar agua, y oró para que tuviera una respuesta favorable cuando le pidiera de beber a una de ellas. Cuando él, un total extraño, se acercó a Rebeca y le pidió agua para beber, ella le respondió con amabilidad y generos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3657600" y="1676520"/>
            <a:ext cx="548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fácil hubiera sido para Rebeca ignorar la petición de agua de un extraño, o simplemente pudo haberle ofrecido una bebida con rapidez y haber continuado su camino. Sin embargo, ella le hizo conversación e hizo un esfuerzo extra al proveerle agua para su grupo de camellos sedientos. Como resultado de su accesibilidad, su vida cambió en una forma que jamás se hubiera podido imaginar; como esposa de Isaac, se convertiría en parte del linaje del Mesía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012680" y="10692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74120" y="190620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accesi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268236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us compañeros se sienten con la libertad de traerle malas noticias, de estar en desacuerdo con su punto de vista, o de cuestionar algo que usted hizo m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79800" y="589428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Tiende a la volubilida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28600" y="159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INCHER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 prepararse para la batalla, cave un hoyo en el que también quepa un a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4920" y="20070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rentamos muchas batallas en la vida, y la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trincheras» en las cuales vivimos vienen en diferentes formas y tam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os son lugares donde desarrollamos relaciones cercanas con los demás, y cuando la vida se dificulta, tenem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os amigos que enfrentan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nto con nosotros es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s difíc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27080" y="78480"/>
            <a:ext cx="894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echos acerca de los amigos de trincher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7960" y="930960"/>
            <a:ext cx="44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pocos en núm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49120" y="1540440"/>
            <a:ext cx="70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Dan fuerzas antes y durante la bat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43720" y="2226240"/>
            <a:ext cx="79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n las cosas desde la misma perspec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52720" y="29120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Hacen una diferencia en nuestras 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45520" y="359784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os aman incondicion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113760" y="4320"/>
            <a:ext cx="89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Pablo y Bernab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9:26-2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2160" y="1328400"/>
            <a:ext cx="85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nabé fue un amigo de trinchera por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520" y="202104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yó en Pab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alguien más lo hicie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813200" y="3192840"/>
            <a:ext cx="425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OB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liderazgo de Pablo ante otros líde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88080" y="4958280"/>
            <a:ext cx="340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yudó a Pablo a alcanza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TEN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3276720"/>
            <a:ext cx="4605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241280" y="122184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2480" y="20642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un amigo del cual los demás dependen en tiempo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676520" y="38930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estado en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trinchera» con un amigo, un colega o con un miembro de la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154880" y="1220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600200" y="18338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ado en estos cinco principios, ¿fomenta usted o reduce confianza en sus relaci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53800" y="39207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00200" y="45644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qué relación necesita edificar la confianza? ¿Qué hará para fortalecer esa confia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762120" y="616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MIEN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nfianza es el fundamento de cualquier 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1371600" y="3124080"/>
            <a:ext cx="6324480" cy="3529080"/>
            <a:chOff x="1371600" y="3124080"/>
            <a:chExt cx="6324480" cy="3529080"/>
          </a:xfrm>
        </p:grpSpPr>
        <p:pic>
          <p:nvPicPr>
            <p:cNvPr id="53" name="Picture 7" descr="ttp://cdn.grid.fotosearch.com/CSP/CSP991/k12375165.jpg"/>
            <p:cNvPicPr/>
            <p:nvPr/>
          </p:nvPicPr>
          <p:blipFill>
            <a:blip r:embed="rId1"/>
            <a:srcRect l="0" t="12774" r="0" b="12141"/>
            <a:stretch/>
          </p:blipFill>
          <p:spPr>
            <a:xfrm>
              <a:off x="1371600" y="3124080"/>
              <a:ext cx="6324480" cy="35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Rectangle 1" descr=""/>
            <p:cNvPicPr/>
            <p:nvPr/>
          </p:nvPicPr>
          <p:blipFill>
            <a:blip r:embed="rId2"/>
            <a:stretch/>
          </p:blipFill>
          <p:spPr>
            <a:xfrm>
              <a:off x="1854000" y="4508280"/>
              <a:ext cx="394956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 result for trust fall"/>
          <p:cNvPicPr/>
          <p:nvPr/>
        </p:nvPicPr>
        <p:blipFill>
          <a:blip r:embed="rId1"/>
          <a:stretch/>
        </p:blipFill>
        <p:spPr>
          <a:xfrm>
            <a:off x="838080" y="257040"/>
            <a:ext cx="7931160" cy="634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at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000" y="1588680"/>
            <a:ext cx="599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La confianza comienza c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O MISM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86200" y="4983480"/>
            <a:ext cx="50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confianza no pue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RTIMENTAD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2003" t="0" r="11602" b="0"/>
          <a:stretch/>
        </p:blipFill>
        <p:spPr>
          <a:xfrm>
            <a:off x="6089760" y="1066680"/>
            <a:ext cx="2284200" cy="317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www.careerealism.com/wp-content/uploads/2011/12/Several-Cabinets-Featured.png"/>
          <p:cNvPicPr/>
          <p:nvPr/>
        </p:nvPicPr>
        <p:blipFill>
          <a:blip r:embed="rId2"/>
          <a:srcRect l="18658" t="0" r="50" b="0"/>
          <a:stretch/>
        </p:blipFill>
        <p:spPr>
          <a:xfrm>
            <a:off x="66600" y="4238640"/>
            <a:ext cx="3733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tro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-165240" y="1343160"/>
            <a:ext cx="709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confianza funciona como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ENTA DE BAN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382920" y="4727880"/>
            <a:ext cx="55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G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el fundamento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ttp://newyear.phillipmartin.info/personal_finances.gif"/>
          <p:cNvPicPr/>
          <p:nvPr/>
        </p:nvPicPr>
        <p:blipFill>
          <a:blip r:embed="rId1"/>
          <a:stretch/>
        </p:blipFill>
        <p:spPr>
          <a:xfrm>
            <a:off x="6553080" y="687240"/>
            <a:ext cx="2519640" cy="304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tp://photos.gograph.com/thumbs/CSP/CSP991/k11740725.jpg"/>
          <p:cNvPicPr/>
          <p:nvPr/>
        </p:nvPicPr>
        <p:blipFill>
          <a:blip r:embed="rId2"/>
          <a:stretch/>
        </p:blipFill>
        <p:spPr>
          <a:xfrm>
            <a:off x="214200" y="3759120"/>
            <a:ext cx="26593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76320" y="781200"/>
            <a:ext cx="8991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 igual que Sansón, muchos líderes que están mermando el terreno de la confianza en sus relaciones y en su liderazgo, van a mostrar con frecuencia uno o más de los siguientes rasg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875240" y="3960"/>
            <a:ext cx="53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nsón (Jueces 13:1-16:3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3392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lar en lidiar c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ilidade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ÁC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6320" y="4535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Usar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GAÑ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gerse a sí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6320" y="567864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MEN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scontro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ttp://static.comicvine.com/uploads/scale_small/11111/111118999/3113444-3751428663-samso.jpg"/>
          <p:cNvPicPr/>
          <p:nvPr/>
        </p:nvPicPr>
        <p:blipFill>
          <a:blip r:embed="rId1"/>
          <a:stretch/>
        </p:blipFill>
        <p:spPr>
          <a:xfrm>
            <a:off x="5867280" y="2743200"/>
            <a:ext cx="3105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39356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52480" y="236664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n presentes en su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os de estos rasg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52480" y="3727080"/>
            <a:ext cx="71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medidas de cor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ma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6320" y="81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permita que la situación importe má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la re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11360" y="1620720"/>
            <a:ext cx="822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regla clave a segui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siempre intentar valorar a la 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ero más que a las situaciones, progra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s, et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tp://gpfarah.com/gpfarahcom/wp-content/uploads/2014/05/hands-in-the-middle-2.jpg"/>
          <p:cNvPicPr/>
          <p:nvPr/>
        </p:nvPicPr>
        <p:blipFill>
          <a:blip r:embed="rId1"/>
          <a:stretch/>
        </p:blipFill>
        <p:spPr>
          <a:xfrm>
            <a:off x="2362320" y="3681360"/>
            <a:ext cx="3846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4:31:37Z</dcterms:created>
  <dc:creator>montecyr@yahoo.com</dc:creator>
  <dc:description/>
  <dc:language>en-US</dc:language>
  <cp:lastModifiedBy>Monte Cyr</cp:lastModifiedBy>
  <dcterms:modified xsi:type="dcterms:W3CDTF">2021-02-20T13:45:20Z</dcterms:modified>
  <cp:revision>16</cp:revision>
  <dc:subject/>
  <dc:title>PowerPoint Presentation</dc:title>
</cp:coreProperties>
</file>